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jpeg" ContentType="image/jpeg"/>
  <Override PartName="/ppt/media/Bill%20Miller%20-%20Wind%20Spirit.wav" ContentType="audio/x-wav"/>
  <Override PartName="/ppt/media/image11.jpeg" ContentType="image/jpeg"/>
  <Override PartName="/ppt/media/image9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D5C-08B4-4062-BF15-B098592A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527-1578-47F8-8020-36CA759B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7CB-56AB-4191-84B9-1F98575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7E8-68A2-4208-AAED-097ED356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0F7-123D-4C85-B273-6C9499C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9C9-FA94-4AE7-80AD-93F9327C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5A2-C630-4E39-B05B-53EB330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0FF-E977-4EB1-A8E4-9E7FA85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DD4-5661-4D8F-80A6-B885544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624-2C24-4FE0-A119-8B650F8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765-E5D4-463F-A351-0F65F60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6B1-0320-4D1F-8A15-A5565C7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F553-7854-4007-9E9F-F74D8C4D7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Bill%20Miller%20-%20Wind%20Spiri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mask"/>
          <p:cNvPicPr/>
          <p:nvPr/>
        </p:nvPicPr>
        <p:blipFill>
          <a:blip r:embed="rId1">
            <a:lum bright="-60000"/>
          </a:blip>
          <a:srcRect l="0" t="0" r="0" b="-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8200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Zajisté jste již slyšeli o některých důsledcích znečištění vzduchu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. </a:t>
            </a: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Obzvláště ve velkoměstech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ve kterých je vzduch, který dýcháme, velmi nezdravý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2440" y="27939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Pozor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, 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dnes je znečištění vzduchu velmi vysoké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95280" y="17146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 mnoha městech jako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 Mexico-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City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, Santiago de Chile, Mosk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a, etc., 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arují rádia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52440" y="34034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Starší lidé a děti by neměli opouštět domov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80880" y="406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Kdo provozuje s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port, 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měl by toho dnes zanechat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95280" y="468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Astmatik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ové by měli mít u sebe přenosné kyslíkové bomby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395280" y="537372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Zbytek obyvatelstva by měl nosit ochranné masky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m 9" descr="SOM altif Azul (transparente).png"/>
          <p:cNvPicPr/>
          <p:nvPr/>
        </p:nvPicPr>
        <p:blipFill>
          <a:blip r:embed="rId2"/>
          <a:stretch/>
        </p:blipFill>
        <p:spPr>
          <a:xfrm>
            <a:off x="214200" y="21420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Bill%20Miller%20-%20Wind%20Spiri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-64" b="-94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0"/>
          <p:cNvSpPr/>
          <p:nvPr/>
        </p:nvSpPr>
        <p:spPr>
          <a:xfrm>
            <a:off x="792468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8729640" y="5897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684360" y="5589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  <a:ea typeface="Arial"/>
              </a:rPr>
              <a:t>Všechna tato auta</a:t>
            </a:r>
            <a:r>
              <a:rPr b="1" lang="fr-BE" sz="4000" spc="-1" strike="noStrike">
                <a:solidFill>
                  <a:srgbClr val="ffff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8400" y="642960"/>
            <a:ext cx="83912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 roce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1997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zentova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Nissa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lektromobi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Hypermin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Tok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6" descr="Hypermini_tokyo"/>
          <p:cNvPicPr/>
          <p:nvPr/>
        </p:nvPicPr>
        <p:blipFill>
          <a:blip r:embed="rId1"/>
          <a:srcRect l="0" t="0" r="142" b="0"/>
          <a:stretch/>
        </p:blipFill>
        <p:spPr>
          <a:xfrm>
            <a:off x="5143680" y="3692520"/>
            <a:ext cx="3786120" cy="2982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ypermini_pasadena"/>
          <p:cNvPicPr/>
          <p:nvPr/>
        </p:nvPicPr>
        <p:blipFill>
          <a:blip r:embed="rId2"/>
          <a:stretch/>
        </p:blipFill>
        <p:spPr>
          <a:xfrm>
            <a:off x="142920" y="3751200"/>
            <a:ext cx="4143240" cy="2954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202000" y="53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28760" y="1928880"/>
            <a:ext cx="8175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stavitelé měst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Pasaden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Kaliforn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(USA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toto 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profesionální vozidlo pro své úředníky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95280" y="404640"/>
            <a:ext cx="43592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to auta se velice cenil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tože byla lehce obsluhovatelná a mohla všude bez problémů parkova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městském provozu byla velice efektivní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ypermini_tokyo"/>
          <p:cNvPicPr/>
          <p:nvPr/>
        </p:nvPicPr>
        <p:blipFill>
          <a:blip r:embed="rId1"/>
          <a:stretch/>
        </p:blipFill>
        <p:spPr>
          <a:xfrm>
            <a:off x="4857840" y="147600"/>
            <a:ext cx="4143240" cy="291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ypermini_pasadena"/>
          <p:cNvPicPr/>
          <p:nvPr/>
        </p:nvPicPr>
        <p:blipFill>
          <a:blip r:embed="rId2"/>
          <a:stretch/>
        </p:blipFill>
        <p:spPr>
          <a:xfrm>
            <a:off x="544680" y="3429000"/>
            <a:ext cx="3598560" cy="3106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202000" y="53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8 Imagen" descr="Nissan_hypermini.jpg"/>
          <p:cNvPicPr/>
          <p:nvPr/>
        </p:nvPicPr>
        <p:blipFill>
          <a:blip r:embed="rId3"/>
          <a:stretch/>
        </p:blipFill>
        <p:spPr>
          <a:xfrm>
            <a:off x="4643280" y="3357720"/>
            <a:ext cx="43783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492280"/>
            <a:ext cx="784224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Město zkusilo auta koupit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...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ale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Nissan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odpověděl záporně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5800" y="642960"/>
            <a:ext cx="75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rp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6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lynula nájemní smlouva na auta mezi měst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Pasaden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Nissa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7 Imagen" descr="1997_hypermini-01.jpg"/>
          <p:cNvPicPr/>
          <p:nvPr/>
        </p:nvPicPr>
        <p:blipFill>
          <a:blip r:embed="rId1"/>
          <a:stretch/>
        </p:blipFill>
        <p:spPr>
          <a:xfrm>
            <a:off x="2857680" y="3643200"/>
            <a:ext cx="380988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3203640" y="21337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imes New Roman"/>
              </a:rPr>
              <a:t>zničil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834320" y="6213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Hypermini_crushed"/>
          <p:cNvPicPr/>
          <p:nvPr/>
        </p:nvPicPr>
        <p:blipFill>
          <a:blip r:embed="rId1"/>
          <a:srcRect l="0" t="0" r="0" b="94"/>
          <a:stretch/>
        </p:blipFill>
        <p:spPr>
          <a:xfrm>
            <a:off x="3059280" y="3357720"/>
            <a:ext cx="3125520" cy="885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571680" y="571680"/>
            <a:ext cx="827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Nissan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hl všechna aut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 j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RAV"/>
          <p:cNvPicPr/>
          <p:nvPr/>
        </p:nvPicPr>
        <p:blipFill>
          <a:blip r:embed="rId1"/>
          <a:srcRect l="0" t="0" r="80" b="142"/>
          <a:stretch/>
        </p:blipFill>
        <p:spPr>
          <a:xfrm>
            <a:off x="2779560" y="3789360"/>
            <a:ext cx="3808440" cy="2381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0" y="166860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vozidlo s náhonem na všechna ko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pělý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rodukt technologie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svými uživateli od rok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1997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lmi ceněn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0" y="4492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2003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oyo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zhodla přerušit výrob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RAV4-E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(EV=Elektr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ozidlo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3505320"/>
            <a:ext cx="3816360" cy="2622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klady na nabíjen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il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9 US$-Cen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owat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in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le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í nabití vozidla stálo ted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.70 US$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19494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es-SV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lynuly nájemní smlouvy těchto au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10 Imagen" descr="800px-Toyota_RAV4_EV--DC.jpg"/>
          <p:cNvPicPr/>
          <p:nvPr/>
        </p:nvPicPr>
        <p:blipFill>
          <a:blip r:embed="rId2"/>
          <a:stretch/>
        </p:blipFill>
        <p:spPr>
          <a:xfrm>
            <a:off x="4857840" y="3500280"/>
            <a:ext cx="392904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571680" y="428760"/>
            <a:ext cx="7858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oyot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 pospíšila, aby všechna tato vozidla neprodleně stáh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 j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43280" y="263700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imes New Roman"/>
              </a:rPr>
              <a:t>ZNIČILA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Hypermini_crushed"/>
          <p:cNvPicPr/>
          <p:nvPr/>
        </p:nvPicPr>
        <p:blipFill>
          <a:blip r:embed="rId1"/>
          <a:srcRect l="0" t="0" r="0" b="94"/>
          <a:stretch/>
        </p:blipFill>
        <p:spPr>
          <a:xfrm>
            <a:off x="2484360" y="3573360"/>
            <a:ext cx="3125880" cy="88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000" y="450072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Zvítězili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!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čně podpořila 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právni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Toyot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ří měli tato auta pronajatá a teď je chtěli koupi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762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však pak se začali někteří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tí občané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organ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va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64920" y="546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5800" y="1916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pokusu zachráni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RAV4‑E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ili spole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Don’t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Crush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4360" y="321480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nto spolek vyvinul běh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ěsíců tlak 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Toy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11280" y="285840"/>
            <a:ext cx="80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sto nebyl tento 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od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ž vyráběn a b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rie NiMH EV-9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ž nebyla vyrábě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č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00040" y="2000160"/>
            <a:ext cx="803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upi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úz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Chevron-Texac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 na b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z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il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US$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demo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ala továr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2 Imagen" descr="Workshop-area-web1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431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286000"/>
            <a:ext cx="83520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by se vyřešil tento p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rob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ý se stal už celosvětovou katastrofou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ylo už jedno řešení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yšeli jste o něm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89000"/>
            <a:ext cx="914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Kuri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ózní je ta okolnost,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že zatímco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 elektric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ká vozidla jsou ve velkých množstvích ničena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ta se spalovacím motorem jsou dobře chráněna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shaw2518"/>
          <p:cNvPicPr/>
          <p:nvPr/>
        </p:nvPicPr>
        <p:blipFill>
          <a:blip r:embed="rId1"/>
          <a:srcRect l="0" t="0" r="0" b="-67"/>
          <a:stretch/>
        </p:blipFill>
        <p:spPr>
          <a:xfrm>
            <a:off x="5643720" y="3990960"/>
            <a:ext cx="2330280" cy="2438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0" y="206064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rv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ý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ý a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ivi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Jeffrey Luer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mu šlo o záchranu lesů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utnou zkušenos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agem 10" descr=""/>
          <p:cNvPicPr/>
          <p:nvPr/>
        </p:nvPicPr>
        <p:blipFill>
          <a:blip r:embed="rId2"/>
          <a:srcRect l="0" t="0" r="-60" b="47"/>
          <a:stretch/>
        </p:blipFill>
        <p:spPr>
          <a:xfrm>
            <a:off x="928800" y="3884760"/>
            <a:ext cx="3643200" cy="268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odsouzen k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22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letů a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8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měsícům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zen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že spál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 Hum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(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á aut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obná vojenským vozidlů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mají velkou spotřeb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2276640"/>
            <a:ext cx="91440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těl tímto gestem vyjádřit nebezpeč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představují tito žrouti benzínu, nebezpeční pro životní prostředí, pro naši planet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1" descr="suv2"/>
          <p:cNvPicPr/>
          <p:nvPr/>
        </p:nvPicPr>
        <p:blipFill>
          <a:blip r:embed="rId1"/>
          <a:stretch/>
        </p:blipFill>
        <p:spPr>
          <a:xfrm>
            <a:off x="5429160" y="4357800"/>
            <a:ext cx="262116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9 Imagen" descr="Jeffrey Luers.jpg"/>
          <p:cNvPicPr/>
          <p:nvPr/>
        </p:nvPicPr>
        <p:blipFill>
          <a:blip r:embed="rId2"/>
          <a:stretch/>
        </p:blipFill>
        <p:spPr>
          <a:xfrm>
            <a:off x="1357200" y="4286160"/>
            <a:ext cx="3500640" cy="230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9640" y="353880"/>
            <a:ext cx="81439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Lobb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elkých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lejářských koncernů nechtěl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by elektromobily přežil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1680" y="2882880"/>
            <a:ext cx="81435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 tak se kvůli naftě vedou války a po celém světě zabíjejí lidé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o palivo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teré znečišťuje naše životní prostředí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e neexistuje jen t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chnologi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ektr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bilů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552400"/>
            <a:ext cx="835344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MW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vinu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ko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ní 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to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jezdí na vodík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to už př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 1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uver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 Kalifornie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lulý here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rnold Schwarzenegger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zd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um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jezdí na vodík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lední rok byl veřejnosti představ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Genepax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de se jedná o jediné aut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ezdí na vodní páru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tli jste správně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o fu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uj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n na vodu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e to ještě není všechn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á se používá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musí být vůbec filtrová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má schopnost jet na 1 litr vody 1 hodinu rychlostí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 80 km/h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Imagen" descr="Genepax.jpg"/>
          <p:cNvPicPr/>
          <p:nvPr/>
        </p:nvPicPr>
        <p:blipFill>
          <a:blip r:embed="rId1"/>
          <a:stretch/>
        </p:blipFill>
        <p:spPr>
          <a:xfrm>
            <a:off x="1434960" y="1397160"/>
            <a:ext cx="6274080" cy="4063680"/>
          </a:xfrm>
          <a:prstGeom prst="rect">
            <a:avLst/>
          </a:prstGeom>
          <a:ln w="0">
            <a:noFill/>
          </a:ln>
        </p:spPr>
      </p:pic>
      <p:pic>
        <p:nvPicPr>
          <p:cNvPr id="137" name="4 Imagen" descr="Water2Gas.gif"/>
          <p:cNvPicPr/>
          <p:nvPr/>
        </p:nvPicPr>
        <p:blipFill>
          <a:blip r:embed="rId2"/>
          <a:stretch/>
        </p:blipFill>
        <p:spPr>
          <a:xfrm>
            <a:off x="500040" y="285840"/>
            <a:ext cx="3316320" cy="2214360"/>
          </a:xfrm>
          <a:prstGeom prst="rect">
            <a:avLst/>
          </a:prstGeom>
          <a:ln w="0">
            <a:noFill/>
          </a:ln>
        </p:spPr>
      </p:pic>
      <p:pic>
        <p:nvPicPr>
          <p:cNvPr id="138" name="5 Imagen" descr="parte-interna-de-pila-de-hidrogeno-120w.jpg"/>
          <p:cNvPicPr/>
          <p:nvPr/>
        </p:nvPicPr>
        <p:blipFill>
          <a:blip r:embed="rId3"/>
          <a:stretch/>
        </p:blipFill>
        <p:spPr>
          <a:xfrm>
            <a:off x="5786280" y="4000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k se ale nabízí otázka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k je možné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e se tahle auta nedostanou na trh po celém světě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hle 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y musela nahradit vozidla se spalovacími motory již před let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odní pára je jediným výmětem spalování vozidel na vodu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znamená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komple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 bez škodlivi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ko surovina pr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livo se používá pouze vzduc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zplatný zdroj pal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500040"/>
            <a:ext cx="8496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edstavte si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o by stál jeden barel nafty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kdyby nebyl použit k tomu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aby pohyboval auty a náklaďáky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epatrná poptávka by enormě snížila cenu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371484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slechli js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grémiu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mer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kého kongresu došlo k závěr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by cena naftybyla nižší než polovina současné cen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by nebylo 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kulan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ezi 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kulan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y jsou velké investiční fondy velkých kapitálových společnost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íte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kdo má zájem na tom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že nafta nezlevní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or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í olejářské k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r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cí peněz kontrolují zákonodárc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ropy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Bus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va (bývalý prezident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SA), Rockefeller, Rothschild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glická královská rodi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t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-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svým ohromným majetkem kontrolují velký průmys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ý je částečně závislý na naftě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děli jste, že biologické pohonné hmoty používání nafty zvěčňuj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ogické pohonné hmoty se míchají s nafto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se její spotřeba sníži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…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ímot způsobem se ale nafta zachovává jako důležitý zdroj pro pohonné látk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uci jsou šikovn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a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omě toho vedlo používání bionafty a zrna pro biologické pohonné látky k enormnímu zvýšení cen základních výrobků z obilí a zrna na celosvětové úrovn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tože ty byly kupován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lkým množstvím kapitálu na akciových trzích ve formě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urovinového termínového zbož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ez ohledu na to způsobuje používání bionafty a zrna pro biologické pohonné hmoty k tom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pokračuje odlesňován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se vyprodukovalo ještě více biologických pohonných hmo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é se smísí s nafto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7075440" cy="321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857268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00"/>
                </a:solidFill>
                <a:latin typeface="Times New Roman"/>
              </a:rPr>
              <a:t>1996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vyroben firmo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General Motors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sériový elektromob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EV1</a:t>
            </a:r>
            <a:r>
              <a:rPr b="0" lang="pt-PT" sz="2800" spc="-1" strike="noStrike">
                <a:solidFill>
                  <a:srgbClr val="ffff00"/>
                </a:solidFill>
                <a:latin typeface="Times New Roman"/>
              </a:rPr>
              <a:t> (Electric V</a:t>
            </a:r>
            <a:r>
              <a:rPr b="0" lang="pt-PT" sz="3200" spc="-1" strike="noStrike">
                <a:solidFill>
                  <a:srgbClr val="ffff00"/>
                </a:solidFill>
                <a:latin typeface="Times New Roman"/>
              </a:rPr>
              <a:t>ehicle 1)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jezdil po ulicích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Kalifor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ná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 «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fekt sněhové koul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4360" y="1052640"/>
            <a:ext cx="8135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šlete tuto informac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10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átelům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ří ji pošlou opě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10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átelům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k se dostane tato 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nform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 do celého svět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84360" y="2063880"/>
            <a:ext cx="80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ce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1: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yž tuto 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nform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važujete za důležitou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k ji pošlete dále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4360" y="4292640"/>
            <a:ext cx="8064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několika měsících nás bude milióny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ří se budou táza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Proč se elektromobily nejdříve vyrábějí a pak ničí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?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Proč není vozidlo na vodík podporováno a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populari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zováno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84360" y="2852640"/>
            <a:ext cx="82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ce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2: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yž si příště koupíte aut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žadujte od prodejce elektromobil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bo lépe vozidlo na vodík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bo snad dokonce nějaké vozidlo na vodní páru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84360" y="5662440"/>
            <a:ext cx="8064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těli byste dýchat čerstvý vzduch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k buďte </a:t>
            </a: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akti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í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“Lobb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”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nejsou tak všemocné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silné a zakořeněné, jak se zdá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35676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ROZŠIŘUJTE TUTO INFORMACI VE VAŠICH </a:t>
            </a:r>
            <a:r>
              <a:rPr b="0" lang="pt-PT" sz="2000" spc="-1" strike="noStrike">
                <a:solidFill>
                  <a:srgbClr val="ffff00"/>
                </a:solidFill>
                <a:latin typeface="Times New Roman"/>
              </a:rPr>
              <a:t> KONTAKTE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pt-PT" sz="2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476360" y="981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PRÁVĚJTE O TO PŘÁTELŮM</a:t>
            </a:r>
            <a:r>
              <a:rPr b="0" lang="pt-PT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76360" y="1557360"/>
            <a:ext cx="655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UPOZORNĚTE JINÉ OSOBY</a:t>
            </a:r>
            <a:r>
              <a:rPr b="0" lang="pt-PT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8360" y="227664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Jen tak se dá něco dělat proti bohatství těchto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 “Lobb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y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”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které se obohacují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zatímco nám znečišťováním způsobují nemoci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vyplývající z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pohonných hmot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57120" y="3573360"/>
            <a:ext cx="8501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6600"/>
                </a:solidFill>
                <a:latin typeface="Times New Roman"/>
              </a:rPr>
              <a:t>Bojujme za naše přežití a za blaho naší plane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7160" y="64008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witter.com/wichtigzu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ev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0256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a to rychlá 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100 km/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éně než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9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ekund!</a:t>
            </a:r>
            <a:br>
              <a:rPr sz="3200"/>
            </a:b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914400" y="6324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696960" y="421020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yla velmi tichá</a:t>
            </a: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4" descr="ev1(flipped)2"/>
          <p:cNvPicPr/>
          <p:nvPr/>
        </p:nvPicPr>
        <p:blipFill>
          <a:blip r:embed="rId1"/>
          <a:srcRect l="0" t="22676" r="0" b="24414"/>
          <a:stretch/>
        </p:blipFill>
        <p:spPr>
          <a:xfrm>
            <a:off x="4429080" y="2714760"/>
            <a:ext cx="285768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nečišťovala životní prostřed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ěla žádný výfu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994360" y="6113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ev1_habitacle"/>
          <p:cNvPicPr/>
          <p:nvPr/>
        </p:nvPicPr>
        <p:blipFill>
          <a:blip r:embed="rId1"/>
          <a:stretch/>
        </p:blipFill>
        <p:spPr>
          <a:xfrm>
            <a:off x="4857840" y="3268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v_back"/>
          <p:cNvPicPr/>
          <p:nvPr/>
        </p:nvPicPr>
        <p:blipFill>
          <a:blip r:embed="rId2"/>
          <a:stretch/>
        </p:blipFill>
        <p:spPr>
          <a:xfrm>
            <a:off x="117360" y="2571840"/>
            <a:ext cx="45259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58147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ala se lehce nabít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– elektr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u e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nerg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 a ve vlastní garáži</a:t>
            </a:r>
            <a:r>
              <a:rPr b="0" lang="es-DO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97120" cy="359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evi_garage"/>
          <p:cNvPicPr/>
          <p:nvPr/>
        </p:nvPicPr>
        <p:blipFill>
          <a:blip r:embed="rId2"/>
          <a:stretch/>
        </p:blipFill>
        <p:spPr>
          <a:xfrm>
            <a:off x="214200" y="228600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6786360" y="4818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71680" y="1738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  <a:ea typeface="Arial"/>
              </a:rPr>
              <a:t>Jak to bylo možné</a:t>
            </a:r>
            <a:r>
              <a:rPr b="1" lang="pt-PT" sz="2800" spc="-1" strike="noStrike">
                <a:solidFill>
                  <a:srgbClr val="ffff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71680" y="5716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Arial"/>
              </a:rPr>
              <a:t>O </a:t>
            </a:r>
            <a:r>
              <a:rPr b="1" lang="pt-PT" sz="2800" spc="-1" strike="noStrike">
                <a:solidFill>
                  <a:srgbClr val="ff6600"/>
                </a:solidFill>
                <a:latin typeface="Arial"/>
                <a:ea typeface="Arial"/>
              </a:rPr>
              <a:t>10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Arial"/>
              </a:rPr>
              <a:t>let později tato auta budoucnosti zmizela</a:t>
            </a:r>
            <a:r>
              <a:rPr b="1" lang="pt-PT" sz="2800" spc="-1" strike="noStrike">
                <a:solidFill>
                  <a:srgbClr val="ff66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71680" y="2428920"/>
            <a:ext cx="551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me vědět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e tato auta nemohla být koupen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Dala se jen pronajmout</a:t>
            </a:r>
            <a:r>
              <a:rPr b="0" lang="pt-PT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39640" y="4076640"/>
            <a:ext cx="554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jemní smlouvy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nebyly jednoduše prodlouženy</a:t>
            </a:r>
            <a:r>
              <a:rPr b="0" lang="pt-PT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1" descr="ev1_demonstration"/>
          <p:cNvPicPr/>
          <p:nvPr/>
        </p:nvPicPr>
        <p:blipFill>
          <a:blip r:embed="rId1"/>
          <a:stretch/>
        </p:blipFill>
        <p:spPr>
          <a:xfrm>
            <a:off x="6629400" y="2565360"/>
            <a:ext cx="244332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0"/>
          <p:cNvSpPr/>
          <p:nvPr/>
        </p:nvSpPr>
        <p:spPr>
          <a:xfrm>
            <a:off x="792468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8729640" y="5897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5" descr="ev1(flipped)blBackgr"/>
          <p:cNvPicPr/>
          <p:nvPr/>
        </p:nvPicPr>
        <p:blipFill>
          <a:blip r:embed="rId1"/>
          <a:srcRect l="0" t="26190" r="0" b="28345"/>
          <a:stretch/>
        </p:blipFill>
        <p:spPr>
          <a:xfrm>
            <a:off x="1332000" y="3141720"/>
            <a:ext cx="5400720" cy="163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4" descr="ev1_crushed_blackbackgr"/>
          <p:cNvPicPr/>
          <p:nvPr/>
        </p:nvPicPr>
        <p:blipFill>
          <a:blip r:embed="rId2"/>
          <a:srcRect l="0" t="11107" r="0" b="17354"/>
          <a:stretch/>
        </p:blipFill>
        <p:spPr>
          <a:xfrm>
            <a:off x="1476360" y="4508640"/>
            <a:ext cx="5400720" cy="163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23640" y="2276640"/>
            <a:ext cx="5816520" cy="79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cs-CZ" sz="5400" spc="-1" strike="noStrike">
                <a:solidFill>
                  <a:srgbClr val="ffff00"/>
                </a:solidFill>
                <a:latin typeface="Times New Roman"/>
              </a:rPr>
              <a:t>zničena</a:t>
            </a:r>
            <a:r>
              <a:rPr b="1" lang="fr-BE" sz="5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11280" y="1052640"/>
            <a:ext cx="8072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General Motors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šechn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EV1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áh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 opozici uživatelů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ak byl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5:08:35Z</dcterms:created>
  <dc:creator>Unknown User</dc:creator>
  <dc:description>Political &amp; Business Lobbies contribute to stop progress.</dc:description>
  <dc:language>en-US</dc:language>
  <cp:lastModifiedBy>JOSEF</cp:lastModifiedBy>
  <dcterms:modified xsi:type="dcterms:W3CDTF">2011-09-25T11:58:14Z</dcterms:modified>
  <cp:revision>5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20000000000001023620</vt:lpwstr>
  </property>
</Properties>
</file>