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11.gif" ContentType="image/gif"/>
  <Override PartName="/ppt/media/image6.gif" ContentType="image/gif"/>
  <Override PartName="/ppt/media/image5.gif" ContentType="image/gif"/>
  <Override PartName="/ppt/media/image8.png" ContentType="image/png"/>
  <Override PartName="/ppt/media/image4.gif" ContentType="image/gif"/>
  <Override PartName="/ppt/media/image2.gif" ContentType="image/gif"/>
  <Override PartName="/ppt/media/image25.gif" ContentType="image/gif"/>
  <Override PartName="/ppt/media/image10.png" ContentType="image/png"/>
  <Override PartName="/ppt/media/mika%20-%20relax%20(take%20it%20easy).wav" ContentType="audio/x-wav"/>
  <Override PartName="/ppt/media/image26.gif" ContentType="image/gif"/>
  <Override PartName="/ppt/media/image20.jpeg" ContentType="image/jpeg"/>
  <Override PartName="/ppt/media/image14.gif" ContentType="image/gif"/>
  <Override PartName="/ppt/media/image23.jpeg" ContentType="image/jpeg"/>
  <Override PartName="/ppt/media/image22.gif" ContentType="image/gif"/>
  <Override PartName="/ppt/media/image18.jpeg" ContentType="image/jpeg"/>
  <Override PartName="/ppt/media/image21.wmf" ContentType="image/x-wmf"/>
  <Override PartName="/ppt/media/image17.gif" ContentType="image/gif"/>
  <Override PartName="/ppt/media/image15.gif" ContentType="image/gif"/>
  <Override PartName="/ppt/media/image19.png" ContentType="image/png"/>
  <Override PartName="/ppt/media/image16.gif" ContentType="image/gif"/>
  <Override PartName="/ppt/media/image13.gif" ContentType="image/gif"/>
  <Override PartName="/ppt/media/image1.gif" ContentType="image/gif"/>
  <Override PartName="/ppt/media/image2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B02-39EA-422D-8438-4B38DF5C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56A-5B1B-4021-85F4-B906340A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76B-9E72-4EBB-A6C0-34D4910A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AEC3-99E6-4D0F-91B0-0CCB7FDB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D20-FE24-40CD-9490-C715541B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7E31-EEE5-4F4E-BAB1-E0736245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C66-4CC1-4B86-864B-E550D99B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9B9-EA84-4B7F-91C2-CDB02F4E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364-7633-4690-97E4-B35D1410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906-4561-4305-925A-3EA97971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A26D-509A-4C3D-9315-6DEF7578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DE2C-B979-48B6-B18E-D11A4971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7B7F-2B5E-4EB2-9185-6C4C0D503B1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audio" Target="../media/mika%20-%20relax%20(take%20it%20easy).wav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Obrázek234"/>
          <p:cNvPicPr/>
          <p:nvPr/>
        </p:nvPicPr>
        <p:blipFill>
          <a:blip r:embed="rId1"/>
          <a:stretch/>
        </p:blipFill>
        <p:spPr>
          <a:xfrm>
            <a:off x="0" y="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Obrázek233"/>
          <p:cNvPicPr/>
          <p:nvPr/>
        </p:nvPicPr>
        <p:blipFill>
          <a:blip r:embed="rId2"/>
          <a:stretch/>
        </p:blipFill>
        <p:spPr>
          <a:xfrm>
            <a:off x="0" y="6513480"/>
            <a:ext cx="9144000" cy="344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Obrázek302"/>
          <p:cNvPicPr/>
          <p:nvPr/>
        </p:nvPicPr>
        <p:blipFill>
          <a:blip r:embed="rId3"/>
          <a:stretch/>
        </p:blipFill>
        <p:spPr>
          <a:xfrm>
            <a:off x="250920" y="692280"/>
            <a:ext cx="3054240" cy="5113080"/>
          </a:xfrm>
          <a:prstGeom prst="rect">
            <a:avLst/>
          </a:prstGeom>
          <a:ln w="0">
            <a:noFill/>
          </a:ln>
        </p:spPr>
      </p:pic>
      <p:sp>
        <p:nvSpPr>
          <p:cNvPr id="44" name="WordArt 7"/>
          <p:cNvSpPr txBox="1"/>
          <p:nvPr/>
        </p:nvSpPr>
        <p:spPr>
          <a:xfrm>
            <a:off x="2700360" y="907920"/>
            <a:ext cx="572436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Tak to zase trochu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rozjedem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5" name="Picture 8" descr="Obrázek260"/>
          <p:cNvPicPr/>
          <p:nvPr/>
        </p:nvPicPr>
        <p:blipFill>
          <a:blip r:embed="rId8"/>
          <a:stretch/>
        </p:blipFill>
        <p:spPr>
          <a:xfrm>
            <a:off x="6156360" y="3573360"/>
            <a:ext cx="2808360" cy="1527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Obrázek255"/>
          <p:cNvPicPr/>
          <p:nvPr/>
        </p:nvPicPr>
        <p:blipFill>
          <a:blip r:embed="rId9"/>
          <a:stretch/>
        </p:blipFill>
        <p:spPr>
          <a:xfrm>
            <a:off x="1476360" y="47973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Obrázek300"/>
          <p:cNvPicPr/>
          <p:nvPr/>
        </p:nvPicPr>
        <p:blipFill>
          <a:blip r:embed="rId10"/>
          <a:stretch/>
        </p:blipFill>
        <p:spPr>
          <a:xfrm>
            <a:off x="4086360" y="2743200"/>
            <a:ext cx="1780920" cy="2701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Obrázek248"/>
          <p:cNvPicPr/>
          <p:nvPr/>
        </p:nvPicPr>
        <p:blipFill>
          <a:blip r:embed="rId11"/>
          <a:stretch/>
        </p:blipFill>
        <p:spPr>
          <a:xfrm>
            <a:off x="179280" y="5950080"/>
            <a:ext cx="180036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4"/>
          <p:cNvSpPr/>
          <p:nvPr/>
        </p:nvSpPr>
        <p:spPr>
          <a:xfrm>
            <a:off x="0" y="0"/>
            <a:ext cx="9144000" cy="685800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 dostane havíř po smr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ři dny volna a šup zase pod ze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Obrázek273"/>
          <p:cNvPicPr/>
          <p:nvPr/>
        </p:nvPicPr>
        <p:blipFill>
          <a:blip r:embed="rId1"/>
          <a:stretch/>
        </p:blipFill>
        <p:spPr>
          <a:xfrm>
            <a:off x="7308720" y="5013360"/>
            <a:ext cx="1511280" cy="1650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Obrázek278"/>
          <p:cNvPicPr/>
          <p:nvPr/>
        </p:nvPicPr>
        <p:blipFill>
          <a:blip r:embed="rId2"/>
          <a:stretch/>
        </p:blipFill>
        <p:spPr>
          <a:xfrm>
            <a:off x="3851280" y="1268280"/>
            <a:ext cx="162720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00026817"/>
          <p:cNvPicPr/>
          <p:nvPr/>
        </p:nvPicPr>
        <p:blipFill>
          <a:blip r:embed="rId1"/>
          <a:stretch/>
        </p:blipFill>
        <p:spPr>
          <a:xfrm>
            <a:off x="1835280" y="2060640"/>
            <a:ext cx="547668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Rectangle 7"/>
          <p:cNvSpPr/>
          <p:nvPr/>
        </p:nvSpPr>
        <p:spPr>
          <a:xfrm>
            <a:off x="971640" y="907920"/>
            <a:ext cx="7488000" cy="935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se pozná odmala gey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Obrázek2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24000" y="333360"/>
            <a:ext cx="8569080" cy="6121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londýnka píše dopis z nemocni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"Milý dárče, díky Ti za srdíčk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Doufá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že se uzdravuješ stejně rychl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jako já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Obrázek197"/>
          <p:cNvPicPr/>
          <p:nvPr/>
        </p:nvPicPr>
        <p:blipFill>
          <a:blip r:embed="rId1"/>
          <a:stretch/>
        </p:blipFill>
        <p:spPr>
          <a:xfrm>
            <a:off x="7308720" y="4508640"/>
            <a:ext cx="1408320" cy="19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0"/>
            <a:ext cx="9144000" cy="71740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ena jde na gynekologickou prohlídku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ejde do dveří, svlékne se, usadí se do křesla. V pootevřený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veřích se jen mihne bílí pláš a ozve 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"Vejš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ena poslušně zvedne nohy co nejvýše může, ale přesto slyší  kři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ejš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padne tedy nohy rukama a silou si je přitiskne skoro k zubům, ale v 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víli se zarazí a zděsí. Vidí, jak se k ní blíží skup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ladíků s  vytřeštěnými výraz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jejich čele obrovský chlap v bílém plášti s břitvou v ru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už nepřestává obtahovat břitvu  na řemenu a s podivným úsměv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eně říká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"Tak já vám to teda řeknu  ještě jednou, ale snad už naposle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ejš musít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ynda je v prvním  patře, tady jste v holičství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Obrázek236"/>
          <p:cNvPicPr/>
          <p:nvPr/>
        </p:nvPicPr>
        <p:blipFill>
          <a:blip r:embed="rId1"/>
          <a:stretch/>
        </p:blipFill>
        <p:spPr>
          <a:xfrm>
            <a:off x="0" y="171360"/>
            <a:ext cx="9144000" cy="65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0"/>
            <a:ext cx="9144000" cy="7605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yslivec přelézá plo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mylem mu brokovnice spustí a několik bro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u  prostřelí piňďo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oktor, to pospravuje co může a když se 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hlapem  louč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ává mu vizitku a povíd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"To je kontakt na mého bratra, mě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yste  ho asi navštívit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n je doktor???  Ne, flétnista. Ale ukáže vá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am máte  dávat prst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byste si nenachcal do ksicht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Obrázek236"/>
          <p:cNvPicPr/>
          <p:nvPr/>
        </p:nvPicPr>
        <p:blipFill>
          <a:blip r:embed="rId1"/>
          <a:stretch/>
        </p:blipFill>
        <p:spPr>
          <a:xfrm>
            <a:off x="162000" y="171360"/>
            <a:ext cx="8818560" cy="65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4ee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ena se v noci probudí a vidí, že manžel není v poste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vlékne si noční košili a jde se za ním podívat do přízem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jde ho jak sedí u kuchyňského stolu s hrnkem horkého ka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á se býti pohroužen do hlubokých úvah, jen tak civí do zd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ena sleduje, jak si utírá slzu a srká horké ka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"Co se děje, drahý ?" zašeptá, když vstoupí do míst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"Proč jsi takhle v noci tady dole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žel vzhlédne od kafe: "Ale, jenom jsem vzpomínal, jak jsme se před 20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ty poprvé potkali a začali spolu chod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obě bylo jenom 16. Pamatuješ se?"   vážně dodáv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ena je dojatá až k slzám, když vidí, jak je její manžel pamětlivý, jak citliv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žel se odmlčí, slova se těžko hledají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  pamatuješ, když nás tvůj táta přistihl v mým autě na zadním sedadle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"Jo, to si pamatuju!" říká žena a uvelebuje se v křesle vedle ně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žel pokračuje: " Vzpomínáš, jak mi vrazil brokovnici do obličeje a řek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zmeš si mou dceru! Nebo chceš, abych tě poslal na 20 let do vězení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"To si taky pamatuju", odpoví žena něž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n si setře další slzu s tváře a říká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nes bych byl propuštěnej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Obrázek236"/>
          <p:cNvPicPr/>
          <p:nvPr/>
        </p:nvPicPr>
        <p:blipFill>
          <a:blip r:embed="rId1"/>
          <a:stretch/>
        </p:blipFill>
        <p:spPr>
          <a:xfrm>
            <a:off x="162000" y="171360"/>
            <a:ext cx="8818560" cy="65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Oval 4"/>
          <p:cNvSpPr/>
          <p:nvPr/>
        </p:nvSpPr>
        <p:spPr>
          <a:xfrm>
            <a:off x="324000" y="620640"/>
            <a:ext cx="8642160" cy="576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nička a Pepíček sedí na louce plné květů a dívají 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k si to rozdává býk s jalovič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nička se optá Pepíčka: Pepíčk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k to ten býk ví, že to jalovička  ch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epíček: No, býk to vycí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nička: A ty máš rýmu nebo co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Obrázek242"/>
          <p:cNvPicPr/>
          <p:nvPr/>
        </p:nvPicPr>
        <p:blipFill>
          <a:blip r:embed="rId1"/>
          <a:stretch/>
        </p:blipFill>
        <p:spPr>
          <a:xfrm>
            <a:off x="4211640" y="5373720"/>
            <a:ext cx="90504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Jak toma vypadat po odchodu muze z  loznice"/>
          <p:cNvPicPr/>
          <p:nvPr/>
        </p:nvPicPr>
        <p:blipFill>
          <a:blip r:embed="rId1"/>
          <a:stretch/>
        </p:blipFill>
        <p:spPr>
          <a:xfrm>
            <a:off x="1187280" y="1557360"/>
            <a:ext cx="6840720" cy="475128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82" name="Text Box 8"/>
          <p:cNvSpPr/>
          <p:nvPr/>
        </p:nvSpPr>
        <p:spPr>
          <a:xfrm>
            <a:off x="1265760" y="549360"/>
            <a:ext cx="6602760" cy="459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to má vypadat po odchodu muže z ložnic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761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Obrázek303"/>
          <p:cNvPicPr/>
          <p:nvPr/>
        </p:nvPicPr>
        <p:blipFill>
          <a:blip r:embed="rId1"/>
          <a:stretch/>
        </p:blipFill>
        <p:spPr>
          <a:xfrm>
            <a:off x="250920" y="2060640"/>
            <a:ext cx="5162400" cy="439272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9"/>
          <p:cNvSpPr/>
          <p:nvPr/>
        </p:nvSpPr>
        <p:spPr>
          <a:xfrm>
            <a:off x="5148360" y="1628640"/>
            <a:ext cx="3744720" cy="1833840"/>
          </a:xfrm>
          <a:prstGeom prst="wedgeRoundRectCallout">
            <a:avLst>
              <a:gd name="adj1" fmla="val -121851"/>
              <a:gd name="adj2" fmla="val 6835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5435640" y="1844640"/>
            <a:ext cx="31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ámy a páno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o je vš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ase až příšt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2"/>
          <p:cNvSpPr txBox="1"/>
          <p:nvPr/>
        </p:nvSpPr>
        <p:spPr>
          <a:xfrm>
            <a:off x="8459640" y="6093000"/>
            <a:ext cx="266760" cy="23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kovik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pic>
        <p:nvPicPr>
          <p:cNvPr id="87" name="Picture 13" descr="Obrázek282"/>
          <p:cNvPicPr/>
          <p:nvPr/>
        </p:nvPicPr>
        <p:blipFill>
          <a:blip r:embed="rId2"/>
          <a:stretch/>
        </p:blipFill>
        <p:spPr>
          <a:xfrm>
            <a:off x="5364000" y="3716280"/>
            <a:ext cx="2718000" cy="2719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Obrázek270"/>
          <p:cNvPicPr/>
          <p:nvPr/>
        </p:nvPicPr>
        <p:blipFill>
          <a:blip r:embed="rId3"/>
          <a:stretch/>
        </p:blipFill>
        <p:spPr>
          <a:xfrm>
            <a:off x="8101080" y="6200640"/>
            <a:ext cx="876240" cy="6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468360" y="333360"/>
            <a:ext cx="828036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Říká manžel manžel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"Mám kvadratickou nemoc.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"A to je, proboha, jaká?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"Mám chuť na druho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Obrázek21"/>
          <p:cNvPicPr/>
          <p:nvPr/>
        </p:nvPicPr>
        <p:blipFill>
          <a:blip r:embed="rId1"/>
          <a:stretch/>
        </p:blipFill>
        <p:spPr>
          <a:xfrm>
            <a:off x="2195640" y="4581360"/>
            <a:ext cx="4524120" cy="20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Totálně ožralý chlapík jde z hospod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dělá dva kroky a spadne do příkop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Hned se postaví, odplivne si a říká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"Pojebanej mikrospánek ..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Obrázek63"/>
          <p:cNvPicPr/>
          <p:nvPr/>
        </p:nvPicPr>
        <p:blipFill>
          <a:blip r:embed="rId1"/>
          <a:stretch/>
        </p:blipFill>
        <p:spPr>
          <a:xfrm>
            <a:off x="3276720" y="4508640"/>
            <a:ext cx="2665440" cy="19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4"/>
          <p:cNvSpPr/>
          <p:nvPr/>
        </p:nvSpPr>
        <p:spPr>
          <a:xfrm>
            <a:off x="179280" y="1052640"/>
            <a:ext cx="8785440" cy="4681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je absolutní stář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yž vycházíte z muz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 spustí se alar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Obrázek203"/>
          <p:cNvPicPr/>
          <p:nvPr/>
        </p:nvPicPr>
        <p:blipFill>
          <a:blip r:embed="rId1"/>
          <a:stretch/>
        </p:blipFill>
        <p:spPr>
          <a:xfrm>
            <a:off x="2484360" y="5229360"/>
            <a:ext cx="4114800" cy="144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bička ráno říká svému dospívajícímu vnukov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noučku můj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se jsem ve snu lítala na motorc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ášela se jako na vln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celém městě s vlajícími vla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bí, zlobí se vnuk, kolikrát ti mám opakov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e tvoje tabletky jsou v té druhé krabici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Obrázek268"/>
          <p:cNvPicPr/>
          <p:nvPr/>
        </p:nvPicPr>
        <p:blipFill>
          <a:blip r:embed="rId1"/>
          <a:stretch/>
        </p:blipFill>
        <p:spPr>
          <a:xfrm>
            <a:off x="2484360" y="4869000"/>
            <a:ext cx="417528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4"/>
          <p:cNvSpPr/>
          <p:nvPr/>
        </p:nvSpPr>
        <p:spPr>
          <a:xfrm>
            <a:off x="0" y="404640"/>
            <a:ext cx="9144000" cy="5904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 tramvaje nastoupil opile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avěsil sa na tyč a  spusti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 všichni napravo jste kokot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y nalevo jste  všichni  zloděj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volte, já jsem v životě nic neukrad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k jsi kokot a přesedni si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Obrázek30"/>
          <p:cNvPicPr/>
          <p:nvPr/>
        </p:nvPicPr>
        <p:blipFill>
          <a:blip r:embed="rId1"/>
          <a:stretch/>
        </p:blipFill>
        <p:spPr>
          <a:xfrm>
            <a:off x="3564000" y="4797360"/>
            <a:ext cx="190476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4"/>
          <p:cNvSpPr/>
          <p:nvPr/>
        </p:nvSpPr>
        <p:spPr>
          <a:xfrm>
            <a:off x="179280" y="2133720"/>
            <a:ext cx="8713800" cy="41749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íte, kdo je to stínová tchýně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atka vaší milen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Obrázek27"/>
          <p:cNvPicPr/>
          <p:nvPr/>
        </p:nvPicPr>
        <p:blipFill>
          <a:blip r:embed="rId1"/>
          <a:stretch/>
        </p:blipFill>
        <p:spPr>
          <a:xfrm>
            <a:off x="2268360" y="1052640"/>
            <a:ext cx="422928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4"/>
          <p:cNvSpPr/>
          <p:nvPr/>
        </p:nvSpPr>
        <p:spPr>
          <a:xfrm>
            <a:off x="250920" y="620640"/>
            <a:ext cx="8642160" cy="5616720"/>
          </a:xfrm>
          <a:custGeom>
            <a:avLst/>
            <a:gdLst>
              <a:gd name="textAreaLeft" fmla="*/ 661680 w 8642160"/>
              <a:gd name="textAreaRight" fmla="*/ 7980480 w 864216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323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634" y="21600"/>
                </a:lnTo>
                <a:arcTo wR="3600" hR="3600" stAng="10800000" swAng="5400000"/>
                <a:lnTo>
                  <a:pt x="33234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vě blondýnky se bav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"Tak co, udělala si řidičák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"Ale ne, vyhodili mě.  " Proč? 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"Tak jsem si jezdila, a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sme se dostali na kruhový objez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  tam byla tabule 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ak jsem to 30 krát objela a stejně  mě vyhodi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"A nepřepočítala si se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Obrázek155"/>
          <p:cNvPicPr/>
          <p:nvPr/>
        </p:nvPicPr>
        <p:blipFill>
          <a:blip r:embed="rId1"/>
          <a:stretch/>
        </p:blipFill>
        <p:spPr>
          <a:xfrm>
            <a:off x="3348000" y="447660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5"/>
          <p:cNvSpPr/>
          <p:nvPr/>
        </p:nvSpPr>
        <p:spPr>
          <a:xfrm>
            <a:off x="539640" y="333360"/>
            <a:ext cx="8136000" cy="5832360"/>
          </a:xfrm>
          <a:prstGeom prst="horizontalScroll">
            <a:avLst>
              <a:gd name="adj" fmla="val 125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astaví policajt auto a chce dokl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hlíží, obrací, koukne na řidič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"Jméno  a adresu!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………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"A ten, co uměl číst, už u vás není??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Obrázek150"/>
          <p:cNvPicPr/>
          <p:nvPr/>
        </p:nvPicPr>
        <p:blipFill>
          <a:blip r:embed="rId1"/>
          <a:stretch/>
        </p:blipFill>
        <p:spPr>
          <a:xfrm>
            <a:off x="4067280" y="4581360"/>
            <a:ext cx="809640" cy="1876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2:04:30Z</dcterms:created>
  <dc:creator>lubo</dc:creator>
  <dc:description/>
  <dc:language>en-US</dc:language>
  <cp:lastModifiedBy>lubo</cp:lastModifiedBy>
  <dcterms:modified xsi:type="dcterms:W3CDTF">2010-04-21T12:09:07Z</dcterms:modified>
  <cp:revision>1</cp:revision>
  <dc:subject/>
  <dc:title>Snímka 1</dc:title>
</cp:coreProperties>
</file>